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5F43-1294-4348-9A39-B5161FEC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7F8A-5675-4FB8-A39C-E1262B61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7D3-927C-47EA-AD56-7E9197E9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29E0-FEAB-455E-AA3C-6CB9FCB6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488-C986-482A-A49C-CEDEA152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954-DB5D-4DB4-9D0B-0A44D4E7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118-5B7B-45E4-B1BA-B2FD739F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3EBF-090F-4341-800C-D80CCFCA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3FFA-6D6A-4303-931C-1E3BA2DE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789-20CA-4DFE-95E9-6F0DE463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6B0-4A8D-4073-A08F-62CE5FC4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4F07-6BED-42C0-93FD-4EBC07C6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27A3-DA27-48EC-9154-4A24FDF74B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Jetzt mitStiften + mitGewinn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898989"/>
                </a:solidFill>
                <a:latin typeface="Calibri"/>
              </a:rPr>
              <a:t>Mit der Förderkampagne mitStiften + mitGewinnen bietet der Verein Aktive Bürgerschaft mit Sitz in Berlin unseren Stiftern und Spendern einen besonderen Anreiz, sich für die [Name der Bürgerstiftung] zu engagiere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aktive-buergerschaft.de/fp_files/logo_mitStiften_mitGewinnen_web.jpg"/>
          <p:cNvPicPr/>
          <p:nvPr/>
        </p:nvPicPr>
        <p:blipFill>
          <a:blip r:embed="rId1"/>
          <a:stretch/>
        </p:blipFill>
        <p:spPr>
          <a:xfrm>
            <a:off x="1116000" y="692280"/>
            <a:ext cx="2592360" cy="16081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4"/>
          <p:cNvSpPr/>
          <p:nvPr/>
        </p:nvSpPr>
        <p:spPr>
          <a:xfrm>
            <a:off x="5508720" y="1052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[Hier Logo der Bürgerstiftung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mitStiften + mitGewin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tiften oder spenden Sie vom 1. Juni bis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. Oktober 2013 mindestens 200 Euro an die [Name der Bürgerstiftung]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ewinnen Sie einen von zehn originellen Preisen rund ums Engag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Hauptpre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Ein </a:t>
            </a: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Besuch für zwei Personen mit Stadttour durch das bürgeraktive Berlin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und Begegnung mit engagierten Bürgerinnen und Bürgern. Inklusive Anreise, zwei Übernachtungen im Fünf-Sterne-Hotel und Menü im Sternerestaura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996840" y="1484280"/>
            <a:ext cx="3070440" cy="4479840"/>
          </a:xfrm>
          <a:prstGeom prst="rect">
            <a:avLst/>
          </a:prstGeom>
          <a:ln w="0">
            <a:noFill/>
          </a:ln>
        </p:spPr>
      </p:pic>
      <p:sp>
        <p:nvSpPr>
          <p:cNvPr id="50" name="Textfeld 1"/>
          <p:cNvSpPr/>
          <p:nvPr/>
        </p:nvSpPr>
        <p:spPr>
          <a:xfrm>
            <a:off x="925560" y="5950080"/>
            <a:ext cx="3070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Tour durch das bürgeraktive Berl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Foto: Kai Biener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Hauptpre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ie funktionieren Finanzmärkte? Uwe Fröhlich, Präsident des Bundesverbandes der Deutschen Volksbanken und Raiffeisenbanken (BVR), unterrichtet im Namen des Gewinners an einer </a:t>
            </a: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Schule in [Name der Stadt oder Region]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und diskutiert mit Schülerinnen und Schüler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ie arbeitet eine Zeitung? Ein </a:t>
            </a: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Besuch bei der Süddeutschen Zeitung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in München mit Führung und persönlichem Gespräch mit Prof. Dr. Heribert Prantl, Mitglied der Chefredaktion. Inklusive Anreise mit der Bah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itere Pre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3 x </a:t>
            </a: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1.000 Euro für eine gemeinnützige Organisation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in [Name der Stadt oder Region] nach Wahl des Gewin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Vier </a:t>
            </a: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handsignierte Buchprei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rof. Dr. Paul Nolte: Was ist Demokratie? Geschichte und Gegenw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Richard David Precht: Die Kunst, kein Egoist zu se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Helmut Schmidt: Außer Dien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rof. Dr. Annette Zimmer: Bürgerschaftliches Engagement unter Dru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Jetzt teilnehm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Zustiftung oder Spende direkt an die Bürgerstiftung überwei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eilnahmekarte ausfüllen und Geldeingang von der Bürgerstiftung bestätigen la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formationen und Teilnahmebedingunge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ww.aktive-buergerschaft.de/mitgewin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und unter [Internetseite Bürgerstiftung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11:29:02Z</dcterms:created>
  <dc:creator>Bodo Wannow</dc:creator>
  <dc:description/>
  <dc:language>en-US</dc:language>
  <cp:lastModifiedBy>Carola</cp:lastModifiedBy>
  <dcterms:modified xsi:type="dcterms:W3CDTF">2013-05-08T09:54:08Z</dcterms:modified>
  <cp:revision>15</cp:revision>
  <dc:subject/>
  <dc:title>Jetzt mitStiften + mitGewinnen</dc:title>
</cp:coreProperties>
</file>