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A16-CAC9-48A3-BB9D-6FE4A1AC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C3E-57F8-4CE6-AB99-9BB14EA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B32-AA22-4861-B24D-D4C745FB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C69-69D7-47CC-808E-24D6BE25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027-49F4-4654-BCA6-CA5B09B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05B-7764-4076-8245-4E309680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E64-73D8-46D2-8FE1-5DE59AB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547-FFC9-4CC8-A11B-45BFA8B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E24-FFB4-4188-9124-CB52FDD5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60F-0FED-4AD0-BBBC-F874FF0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7E8-6A52-438C-81DA-BF55E4B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601-82FA-4D02-9DDE-0E6EC1A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4E2-02DB-45E8-9432-F362E8AB87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mitStiften + mitGewinn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98989"/>
                </a:solidFill>
                <a:latin typeface="Calibri"/>
              </a:rPr>
              <a:t>[Mitarbeiter/Mitglieder/Kunden] der [Name der Organisation] können jetzt etwas für die [Name der Bürgerstiftung] tun und sich so für die [„Stadt, Gemeinde oder Region“] engagieren – und mit ein wenig Glück auch selbst etwas zurück bekommen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98989"/>
                </a:solidFill>
                <a:latin typeface="Calibri"/>
              </a:rPr>
              <a:t>Mit der Förderkampagne mitStiften + mitGewinnen bietet der Verein Aktive Bürgerschaft mit Sitz in Berlin einen besonderen Anreiz, für die [Name der Bürgerstiftung] zu stiften oder zu spenden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aktive-buergerschaft.de/fp_files/logo_mitStiften_mitGewinnen_web.jpg"/>
          <p:cNvPicPr/>
          <p:nvPr/>
        </p:nvPicPr>
        <p:blipFill>
          <a:blip r:embed="rId1"/>
          <a:stretch/>
        </p:blipFill>
        <p:spPr>
          <a:xfrm>
            <a:off x="1116000" y="692280"/>
            <a:ext cx="2592360" cy="16081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4"/>
          <p:cNvSpPr/>
          <p:nvPr/>
        </p:nvSpPr>
        <p:spPr>
          <a:xfrm>
            <a:off x="5508720" y="1052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[Hier Logo der Bürgerstiftung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[Name der Bürgerstiftung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[Hier die Bürgerstiftung vorstellen, zum Beispiel mit Gründungsjahr, aktuellen Schwerpunkten oder „Meilensteinen“.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itStiften + mitGewi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r vom 1. Juni bis 1. Oktober 2013 mindestens 200 Euro an die [Name der Bürgerstiftung] zustiftet oder spendet, kann einen von zehn originellen Preisen rund ums Engagement  gewinnen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für zwei Personen mit Stadttour durch das bürgeraktive Berli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und Begegnung mit engagierten Bürgerinnen und Bürgern. Inklusive Anreise, zwei Übernachtungen im Fünf-Sterne-Hotel und Menü im Sternerestaur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96840" y="1484280"/>
            <a:ext cx="3070440" cy="4479840"/>
          </a:xfrm>
          <a:prstGeom prst="rect">
            <a:avLst/>
          </a:prstGeom>
          <a:ln w="0">
            <a:noFill/>
          </a:ln>
        </p:spPr>
      </p:pic>
      <p:sp>
        <p:nvSpPr>
          <p:cNvPr id="52" name="Textfeld 1"/>
          <p:cNvSpPr/>
          <p:nvPr/>
        </p:nvSpPr>
        <p:spPr>
          <a:xfrm>
            <a:off x="925560" y="5950080"/>
            <a:ext cx="3070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Tour durch das bürgeraktive Berl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Foto: Kai Biener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pt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funktionieren Finanzmärkte? Uwe Fröhlich, Präsident des Bundesverbandes der Deutschen Volksbanken und Raiffeisenbanken (BVR), unterrichtet im Namen des Gewinners an ein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Schule  in [Name der Stadt oder Region]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und diskutiert mit Schülerinnen und Schüler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arbeitet eine Zeitung? Ein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Besuch bei der Süddeutschen Zeitung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 in München mit Führung und persönlichem Gespräch mit Prof. Dr. Heribert Prantl, Mitglied der Chefredaktion. Inklusive Anreise mit der Bah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itere Pre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3 x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1.000 Euro für eine gemeinnützige Organisation </a:t>
            </a: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in [Name der Stadt oder Region] nach Wahl des Gewin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Vier </a:t>
            </a:r>
            <a:r>
              <a:rPr b="1" lang="de-DE" sz="3000" spc="-1" strike="noStrike">
                <a:solidFill>
                  <a:srgbClr val="000000"/>
                </a:solidFill>
                <a:latin typeface="Calibri"/>
              </a:rPr>
              <a:t>handsignierte Buchprei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Paul Nolte: Was ist Demokratie? Geschichte und Gegenw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Richard David Precht: Die Kunst, kein Egoist zu se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Helmut Schmidt: Außer Dien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rof. Dr. Annette Zimmer: Bürgerschaftliches Engagement unter Dru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Jetzt teilnehm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ustiftung oder Spende direkt an die Bürgerstiftung überwei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ilnahmekarte ausfüllen und Geldeingang von der Bürgerstiftung bestätigen la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formationen und Teilnahmebedingunge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ww.aktive-buergerschaft.de/mitgewi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d unter [Internetseite Bürgerstiftung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e Sie uns unterstützen kön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[Hier recherchieren und Möglichkeiten auswählen, z.B.: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ldung auf Firmenhomepage und im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-Mail-Newsl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irmen-/Mitgliederzeitsch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m Schwarzen Br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triebsfeier, Sommerfest, Jubilä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29:02Z</dcterms:created>
  <dc:creator>Bodo Wannow</dc:creator>
  <dc:description/>
  <dc:language>en-US</dc:language>
  <cp:lastModifiedBy>Carola</cp:lastModifiedBy>
  <dcterms:modified xsi:type="dcterms:W3CDTF">2013-05-08T09:54:34Z</dcterms:modified>
  <cp:revision>23</cp:revision>
  <dc:subject/>
  <dc:title>Jetzt mitStiften + mitGewinnen</dc:title>
</cp:coreProperties>
</file>